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81605-6C44-44BA-BBD6-0C1EFEC6E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29027-0DE1-4A25-AD51-7C1487F46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5BAF1-7624-4759-868C-B410A6405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A06CD-EEA7-44C1-8B40-5FB6559FA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F04FB-00E4-4407-B477-560F98B31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6C884-28A4-4B86-AED2-F6DA71A5C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B52A5-0977-41F8-9F28-F4CC37788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A420B-F4D1-4526-B47E-F2E8F7F7A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FBBB0-C618-4450-9476-0754D3127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EE39B-C98A-4346-AC5E-2AFAF9B41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35D83-CDEF-4FE7-88F5-4B894129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192A2-759B-4E4E-AC75-BD79453C7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4CB45-D50D-4FCA-8DC5-FB5ED982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664AB-AD45-40E5-ACD1-6F6666E8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FD21F-80B5-4BC7-B3A5-D6F54BEEC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8BDBD-5EBE-431D-A5D8-07DDBFE8F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3F4F8-FD5D-4F5B-A1CC-40BD93F13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D4518-C131-4E47-9906-733239F99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842C4-443F-44EA-B7CD-6CC1A27A5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5E386-3E0D-425D-984C-C913EF73A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8BB3F-9DF6-487A-9EDB-2E5703291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8BE78-4A51-4532-B609-CE342834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FF54D-D400-4AF5-9969-B9685328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1880D-B429-4A48-AE35-1307A329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A2FA9-7B51-4E13-9CB8-1685C8A9FB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B0691-1F34-4392-B30B-86E08AABA8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95480" y="144792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Warm-up:  MSA Review Day 10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Geometry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6840" y="4266720"/>
            <a:ext cx="85345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bjective:  Students will use their knowledge of area of triangles and rectangles to find the area of Composite Figure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:  Students will use their knowledge of area of triangles and rectangles to find the area of Composite Figures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you find the area of a composite figure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1:  Split the area into common figur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2:  Find the area of the each fig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3:  Add all the areas togeth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:  Students will use their knowledge of area of triangles and rectangles to find the area of Composite Fig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781680" y="3657600"/>
            <a:ext cx="1295640" cy="1981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391520" y="2895480"/>
            <a:ext cx="68580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164720" y="563868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22080" y="45720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83480" y="335268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76320" y="2592360"/>
            <a:ext cx="464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would be a challenge when finding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 of this composite figu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:  Students will use their knowledge of area of triangles and rectangles to find the area of Composite Figu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missing sides, move the opposite sides so that they line up to equal each 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81280" y="29718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95880" y="29718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81280" y="29718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81280" y="49528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486040" y="4952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191120" y="4114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486400" y="4114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91120" y="41148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3800" y="259092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64160" y="49528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659040" y="49528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9920" y="373392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176720" y="430380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60195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Objective:  Students will use their knowledge of area of triangles and rectangles to find the area of Composite Figu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artner Practi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Homework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mposite Figure Workshee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5:50:12Z</dcterms:created>
  <dc:creator>ccps</dc:creator>
  <dc:description/>
  <dc:language>en-US</dc:language>
  <cp:lastModifiedBy>deanne elizabeth mcgrath</cp:lastModifiedBy>
  <dcterms:modified xsi:type="dcterms:W3CDTF">2011-02-25T13:31:46Z</dcterms:modified>
  <cp:revision>12</cp:revision>
  <dc:subject/>
  <dc:title>Geometry</dc:title>
</cp:coreProperties>
</file>